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3DF-EB2D-4F63-A8C8-8D140729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B7B8-6D5C-4A90-A080-C5D216DC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1FC-192E-493D-BC10-06F46873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028-D9C3-4AA2-836D-6CBBD945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E47E-4424-4D0F-9915-70E1C84D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1A0-4550-4047-8CAF-2BED9888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349-DCD8-4CCE-A06E-CAAD7E8E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87E-6786-4B93-90EF-EC7DE436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110-071F-4CD1-918F-57AFE4EB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831F-7D8A-4FD9-BA1D-1B95623E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5DE-3666-491D-9550-50A018F5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1E7-268B-42E5-BDDC-2F3FA446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586A-14D3-49AE-BC81-26C27B4CE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Solve problems by looking for a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06960" y="1413000"/>
            <a:ext cx="37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506960" y="1413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06600" y="141300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06600" y="1413000"/>
            <a:ext cx="543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506600" y="1413000"/>
            <a:ext cx="54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06600" y="1413000"/>
            <a:ext cx="54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28600" y="4114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523880" y="41148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number of problems worked each half hour follow the patte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821320" y="31240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, 48, 35, 24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0880" y="1981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rule to find the successive terms in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821320" y="31240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, 48, 35, 24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80880" y="1981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rule to find the successive terms in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66680" y="39625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he number decreased by 15, then 13, then 11, so the next number should decrease by 9 and then by 7. The number subtracted decreases by two eac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tern of numbers, 1, 1, 2, 3, 5, 8, . . . . ., is called the Fibonacci sequence. The terms of the sequence are called the Fibonacci numbers. List the first ten Fibonacci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tern of numbers, 1, 1, 2, 3, 5, 8, . . . . ., is called the Fibonacci sequence. The terms of the sequence are called the Fibonacci numbers. List the first ten Fibonacci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058840" y="35053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, 1, 2, 3, 5, 8, 13, 21, 34,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28600" y="1371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ttern for the follow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3, 5, 8, 11, 15, 19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ttern for the follow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3, 5, 8, 11, 15, 19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91680" y="3733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attern: +2, +2, +3, +3, +4, +4, +5, +5, . .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4, 2, 23, 3, 22, 4, . . . . . . 12, 13, 13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95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, 4, 10, 20, 35, 56, __, __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088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, 4, 10, 20, 35, 56, __, __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043000" y="369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84,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432080" y="5832360"/>
            <a:ext cx="64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The difference between numbers increases by 1 eac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507320" y="1413000"/>
            <a:ext cx="314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5:09:12Z</dcterms:created>
  <dc:creator>vern</dc:creator>
  <dc:description/>
  <dc:language>en-US</dc:language>
  <cp:lastModifiedBy>Piper Riddle</cp:lastModifiedBy>
  <dcterms:modified xsi:type="dcterms:W3CDTF">2012-01-23T03:01:33Z</dcterms:modified>
  <cp:revision>6</cp:revision>
  <dc:subject/>
  <dc:title>Problem-Solving Strategy: Look for a pattern</dc:title>
</cp:coreProperties>
</file>